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C63-C260-4ADE-A8FB-DD204E10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B5C-0D8B-4F7B-B25E-A0FEB1ED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08C-7A97-4B3F-8139-62FBC86F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759-097A-4A4E-9118-3A27D9C5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D33-0DE3-4B01-BC53-2AB2F085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AAC-61E0-4DA9-8096-72556924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292-442D-48CF-9B32-6A06B70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02D-650D-4976-92ED-110A5926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76C-53F2-4088-BAE8-AA83ADC7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9C7-36C6-4188-B533-18C03F18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75B-7834-4C11-9668-CE7C1FA9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729-C3C8-4514-8B47-B09A3C1F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7525-EBCA-4F54-8F02-EC183348DE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ESSION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the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overnment predominant over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overnment takes activist role in the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tariffs, free land, national banking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alyst for transformation of American society in the late nineteen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justing to Total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1760" y="15235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 defined as effort to preserve U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th must win by destroying will to res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War: a test of societies, economies, political systems as well as arm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DIVI7233299"/>
          <p:cNvPicPr/>
          <p:nvPr/>
        </p:nvPicPr>
        <p:blipFill>
          <a:blip r:embed="rId2"/>
          <a:stretch/>
        </p:blipFill>
        <p:spPr>
          <a:xfrm>
            <a:off x="1600200" y="3124080"/>
            <a:ext cx="640080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ep South Sece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ederate constitution resembles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 to restore pre-Republican Party Un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erners hope to attract Northern states into Confede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response to secession deb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ttenden Plan: Extend the Missouri Compromise line to the Paci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coln rejects comprom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ources of the Union and the Confederacy, 186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DIVI293"/>
          <p:cNvPicPr/>
          <p:nvPr/>
        </p:nvPicPr>
        <p:blipFill>
          <a:blip r:embed="rId2"/>
          <a:stretch/>
        </p:blipFill>
        <p:spPr>
          <a:xfrm>
            <a:off x="914400" y="2362320"/>
            <a:ext cx="800100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and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00240" y="15998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r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03360" y="2286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r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vy/organized milita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ed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il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onger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egy was to capture capital and split South in two (Mississippi River campaig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160" y="1599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286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ghting for way of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ew terr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egy was to fight a defensive war (war of attrition) and get recognized by foreign nations for support of their c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Civil War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DIVI7233303"/>
          <p:cNvPicPr/>
          <p:nvPr/>
        </p:nvPicPr>
        <p:blipFill>
          <a:blip r:embed="rId2"/>
          <a:stretch/>
        </p:blipFill>
        <p:spPr>
          <a:xfrm>
            <a:off x="2971800" y="1752480"/>
            <a:ext cx="388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zing the Home Fro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00240" y="15998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r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723920" y="22096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raham Lincol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ds wartime pow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lares martial law (Imprisons 10,000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efly suspends freedom of spe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pends Habeas Corpu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cription Act 1862 (draf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ce war through taxes, bonds, paper money, and private busine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15235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560" y="2286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fferson Dav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rned mainly with military du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lects civilian morale, ec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orts to finance lead to runaway inf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cription Act 1862 (draf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cks influence with state gover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War Eff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3920" y="18284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76920" y="251460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the first two years war becomes disastrou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1863, riots break out over Conscription 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ttle of Gettysburg in 1863 is turning point of the w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coln Emancipates slaves to help war effort (5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s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th continues to press on until South eventually crac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18284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5146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first two years the South performs beautifull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sh to get support overseas does not work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failure and key defeats in 1863 lead to Southern demis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uth eventually cannot keep up with war effort and surrend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the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se of total war was devast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18,000 troops d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eft women seek non-domestic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million African Americans free, not eq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workers face wartime inf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DIVI308"/>
          <p:cNvPicPr/>
          <p:nvPr/>
        </p:nvPicPr>
        <p:blipFill>
          <a:blip r:embed="rId2"/>
          <a:stretch/>
        </p:blipFill>
        <p:spPr>
          <a:xfrm>
            <a:off x="685800" y="3886200"/>
            <a:ext cx="7772400" cy="26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7:09:24Z</dcterms:created>
  <dc:creator>CMU</dc:creator>
  <dc:description/>
  <cp:keywords/>
  <dc:language>en-US</dc:language>
  <cp:lastModifiedBy>Thaddeus J. Brooks</cp:lastModifiedBy>
  <cp:lastPrinted>2011-08-16T00:38:00Z</cp:lastPrinted>
  <dcterms:modified xsi:type="dcterms:W3CDTF">2013-10-28T14:11:31Z</dcterms:modified>
  <cp:revision>19</cp:revision>
  <dc:subject/>
  <dc:title>SECESSION AND THE CIVIL WAR</dc:title>
</cp:coreProperties>
</file>